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C83E1F-6713-4BCE-9FED-DA05298616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18384B-26EC-4DF9-9C2A-1E9D8094A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11686B-BDA3-4EC8-A7F3-0B1F5FA467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15E991-B4DC-4D8C-8197-5E0B047023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BD27B7-C268-442A-90BE-F3A9F73EEA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5BEDA4-3981-4762-A6DF-3ED428AE97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A4173C-0893-4436-8A1D-B123F4D84A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A170C2-5B71-46DE-B8FA-90DFCF2522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7BB7BD-4836-44B1-91B0-2828E661A0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3460A1-45CE-4EC0-97B4-E38E211658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B22AB9-1954-4913-AC37-9F49573033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CB945D-7EDC-4D3B-AB34-680A9A7643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8CB6A6-D546-4F75-B0D8-67712C425C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68B6B7-22B8-4CA2-8688-E4A1F13B92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AE44F8-612B-4700-AC23-EDC6E8E93A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21A78C-4FE5-4E7D-AEE0-AC38DD13CD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57F3C3-672D-4EBB-ACEA-4A0F047439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ADCBED-4DFE-4850-B3C0-E26B128160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9297DF-4644-4FA9-960C-5440748070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A48AC8-6357-44A3-ACC5-95D1CE7134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AE77BC-EB9B-46B9-AC52-DC17DC55A0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3F7BD-FF16-4D54-8188-5C4BAD278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980AB-A8A7-4FC3-BE62-94410E2D78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5EF66-EAF7-40C9-A1E0-8B1DD5BC05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18480"/>
            <a:chOff x="0" y="0"/>
            <a:chExt cx="9144000" cy="6918480"/>
          </a:xfrm>
        </p:grpSpPr>
        <p:sp>
          <p:nvSpPr>
            <p:cNvPr id="1" name=""/>
            <p:cNvSpPr/>
            <p:nvPr/>
          </p:nvSpPr>
          <p:spPr>
            <a:xfrm>
              <a:off x="8783640" y="444600"/>
              <a:ext cx="360360" cy="3152520"/>
            </a:xfrm>
            <a:prstGeom prst="rect">
              <a:avLst/>
            </a:prstGeom>
            <a:gradFill rotWithShape="0">
              <a:gsLst>
                <a:gs pos="0">
                  <a:srgbClr val="000022"/>
                </a:gs>
                <a:gs pos="50000">
                  <a:srgbClr val="9999ff"/>
                </a:gs>
                <a:gs pos="100000">
                  <a:srgbClr val="000022"/>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000022"/>
                </a:gs>
                <a:gs pos="50000">
                  <a:srgbClr val="000066"/>
                </a:gs>
                <a:gs pos="100000">
                  <a:srgbClr val="000022"/>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000022"/>
                </a:gs>
                <a:gs pos="50000">
                  <a:srgbClr val="000066"/>
                </a:gs>
                <a:gs pos="100000">
                  <a:srgbClr val="000022"/>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000066"/>
                </a:gs>
                <a:gs pos="50000">
                  <a:srgbClr val="000022"/>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000066"/>
                </a:gs>
                <a:gs pos="50000">
                  <a:srgbClr val="000048"/>
                </a:gs>
                <a:gs pos="100000">
                  <a:srgbClr val="000066"/>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000048"/>
                </a:gs>
                <a:gs pos="50000">
                  <a:srgbClr val="000066"/>
                </a:gs>
                <a:gs pos="100000">
                  <a:srgbClr val="00004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000066"/>
                </a:gs>
                <a:gs pos="50000">
                  <a:srgbClr val="000048"/>
                </a:gs>
                <a:gs pos="100000">
                  <a:srgbClr val="000066"/>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000048"/>
                </a:gs>
                <a:gs pos="50000">
                  <a:srgbClr val="000066"/>
                </a:gs>
                <a:gs pos="100000">
                  <a:srgbClr val="000048"/>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10"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1"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2"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87ECE-C286-4A32-8E0C-3B68BC43981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3"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grpSp>
        <p:nvGrpSpPr>
          <p:cNvPr id="50" name=""/>
          <p:cNvGrpSpPr/>
          <p:nvPr/>
        </p:nvGrpSpPr>
        <p:grpSpPr>
          <a:xfrm>
            <a:off x="0" y="0"/>
            <a:ext cx="9144000" cy="6918480"/>
            <a:chOff x="0" y="0"/>
            <a:chExt cx="9144000" cy="6918480"/>
          </a:xfrm>
        </p:grpSpPr>
        <p:sp>
          <p:nvSpPr>
            <p:cNvPr id="51" name=""/>
            <p:cNvSpPr/>
            <p:nvPr/>
          </p:nvSpPr>
          <p:spPr>
            <a:xfrm>
              <a:off x="8783640" y="444600"/>
              <a:ext cx="360360" cy="3152520"/>
            </a:xfrm>
            <a:prstGeom prst="rect">
              <a:avLst/>
            </a:prstGeom>
            <a:gradFill rotWithShape="0">
              <a:gsLst>
                <a:gs pos="0">
                  <a:srgbClr val="000022"/>
                </a:gs>
                <a:gs pos="50000">
                  <a:srgbClr val="9999ff"/>
                </a:gs>
                <a:gs pos="100000">
                  <a:srgbClr val="000022"/>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000022"/>
                </a:gs>
                <a:gs pos="50000">
                  <a:srgbClr val="000066"/>
                </a:gs>
                <a:gs pos="100000">
                  <a:srgbClr val="000022"/>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000022"/>
                </a:gs>
                <a:gs pos="50000">
                  <a:srgbClr val="000066"/>
                </a:gs>
                <a:gs pos="100000">
                  <a:srgbClr val="000022"/>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000066"/>
                </a:gs>
                <a:gs pos="50000">
                  <a:srgbClr val="000022"/>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000066"/>
                </a:gs>
                <a:gs pos="50000">
                  <a:srgbClr val="000048"/>
                </a:gs>
                <a:gs pos="100000">
                  <a:srgbClr val="000066"/>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000048"/>
                </a:gs>
                <a:gs pos="50000">
                  <a:srgbClr val="000066"/>
                </a:gs>
                <a:gs pos="100000">
                  <a:srgbClr val="00004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000066"/>
                </a:gs>
                <a:gs pos="50000">
                  <a:srgbClr val="000048"/>
                </a:gs>
                <a:gs pos="100000">
                  <a:srgbClr val="000066"/>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000048"/>
                </a:gs>
                <a:gs pos="50000">
                  <a:srgbClr val="000066"/>
                </a:gs>
                <a:gs pos="100000">
                  <a:srgbClr val="000048"/>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44D0B-06C9-417D-B2FA-CC4B580E52E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florarb@uic.edu"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tino Families: </a:t>
            </a:r>
            <a:br>
              <a:rPr sz="4400"/>
            </a:br>
            <a:r>
              <a:rPr b="0" lang="en-US" sz="4400" spc="-1" strike="noStrike">
                <a:solidFill>
                  <a:srgbClr val="ffcc00"/>
                </a:solidFill>
                <a:latin typeface="Times New Roman"/>
              </a:rPr>
              <a:t>Culture and Schooling</a:t>
            </a:r>
            <a:endParaRPr b="0" lang="en-US" sz="4400" spc="-1" strike="noStrike">
              <a:solidFill>
                <a:srgbClr val="ffcc00"/>
              </a:solidFill>
              <a:latin typeface="Times New Roman"/>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lora V. Rodr</a:t>
            </a:r>
            <a:r>
              <a:rPr b="0" lang="en-US" sz="2800" spc="-1" strike="noStrike">
                <a:solidFill>
                  <a:srgbClr val="ffffff"/>
                </a:solidFill>
                <a:latin typeface="Times New Roman"/>
                <a:ea typeface="Times New Roman"/>
              </a:rPr>
              <a:t>í</a:t>
            </a:r>
            <a:r>
              <a:rPr b="0" lang="en-US" sz="2800" spc="-1" strike="noStrike">
                <a:solidFill>
                  <a:srgbClr val="ffffff"/>
                </a:solidFill>
                <a:latin typeface="Times New Roman"/>
              </a:rPr>
              <a:t>guez-Brown</a:t>
            </a:r>
            <a:endParaRPr b="0" lang="en-US" sz="2800" spc="-1" strike="noStrike">
              <a:solidFill>
                <a:srgbClr val="ffffff"/>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iversity of Illinois at Chicago</a:t>
            </a:r>
            <a:endParaRPr b="0" lang="en-US" sz="2800" spc="-1" strike="noStrike">
              <a:solidFill>
                <a:srgbClr val="ffffff"/>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99ff"/>
                </a:solidFill>
                <a:uFillTx/>
                <a:latin typeface="Times New Roman"/>
                <a:hlinkClick r:id="rId1"/>
              </a:rPr>
              <a:t>florarb@uic.edu</a:t>
            </a:r>
            <a:endParaRPr b="0" lang="en-US" sz="2800" spc="-1" strike="noStrike">
              <a:solidFill>
                <a:srgbClr val="ffffff"/>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12-996-3013</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cause I belong to a “familia” I have obligations, and I also have an extended family that cares and look for my well being.</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also means that when something in the “familia” is not going well I have some responsibility to help solve a problem or take care of other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lora V. Rodriguez-Brown, Illinois, 2008</a:t>
            </a:r>
          </a:p>
        </p:txBody>
      </p:sp>
      <p:sp>
        <p:nvSpPr>
          <p:cNvPr id="5" name="PlaceHolder 4"/>
          <p:cNvSpPr>
            <a:spLocks noGrp="1"/>
          </p:cNvSpPr>
          <p:nvPr>
            <p:ph type="sldNum" idx="3"/>
          </p:nvPr>
        </p:nvSpPr>
        <p:spPr/>
        <p:txBody>
          <a:bodyPr/>
          <a:p>
            <a:fld id="{867833C5-098F-437B-A16A-F9AE3AF9226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the concept of “familia” was understood by schools, there will be an understanding of why families disappear when someone in the family die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lora V. Rodriguez-Brown, Illinois, 2008</a:t>
            </a:r>
          </a:p>
        </p:txBody>
      </p:sp>
      <p:sp>
        <p:nvSpPr>
          <p:cNvPr id="5" name="PlaceHolder 4"/>
          <p:cNvSpPr>
            <a:spLocks noGrp="1"/>
          </p:cNvSpPr>
          <p:nvPr>
            <p:ph type="sldNum" idx="3"/>
          </p:nvPr>
        </p:nvSpPr>
        <p:spPr/>
        <p:txBody>
          <a:bodyPr/>
          <a:p>
            <a:fld id="{F7A5302E-B3A3-4707-9984-109C378E5E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oncept of “familia” has implications for the planning and implementation of programs for Latino parents.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grams that provide knowledge that benefit the children as well as parents are more relevant for Latino families.</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lora V. Rodriguez-Brown, Illinois, 2008</a:t>
            </a:r>
          </a:p>
        </p:txBody>
      </p:sp>
      <p:sp>
        <p:nvSpPr>
          <p:cNvPr id="5" name="PlaceHolder 4"/>
          <p:cNvSpPr>
            <a:spLocks noGrp="1"/>
          </p:cNvSpPr>
          <p:nvPr>
            <p:ph type="sldNum" idx="3"/>
          </p:nvPr>
        </p:nvSpPr>
        <p:spPr/>
        <p:txBody>
          <a:bodyPr/>
          <a:p>
            <a:fld id="{F5316C05-B51F-482E-B711-FCF7EB95A5B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87624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ducar vs. Ense</a:t>
            </a:r>
            <a:r>
              <a:rPr b="0" lang="en-US" sz="4400" spc="-1" strike="noStrike">
                <a:solidFill>
                  <a:srgbClr val="ffcc00"/>
                </a:solidFill>
                <a:latin typeface="Times New Roman"/>
                <a:ea typeface="Tahoma"/>
              </a:rPr>
              <a:t>ñar</a:t>
            </a:r>
            <a:endParaRPr b="0" lang="en-US" sz="4400" spc="-1" strike="noStrike">
              <a:solidFill>
                <a:srgbClr val="ffcc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aldes (1996), Reese, et al. (1995) and Rodr</a:t>
            </a:r>
            <a:r>
              <a:rPr b="0" lang="en-US" sz="2800" spc="-1" strike="noStrike">
                <a:solidFill>
                  <a:srgbClr val="ffffff"/>
                </a:solidFill>
                <a:latin typeface="Times New Roman"/>
                <a:ea typeface="Times New Roman"/>
              </a:rPr>
              <a:t>í</a:t>
            </a:r>
            <a:r>
              <a:rPr b="0" lang="en-US" sz="2800" spc="-1" strike="noStrike">
                <a:solidFill>
                  <a:srgbClr val="ffffff"/>
                </a:solidFill>
                <a:latin typeface="Times New Roman"/>
              </a:rPr>
              <a:t>guez-Brown (2004) have found a dichotomy between  the concepts of  “educar” (to educate) and “ense</a:t>
            </a:r>
            <a:r>
              <a:rPr b="0" lang="en-US" sz="2800" spc="-1" strike="noStrike">
                <a:solidFill>
                  <a:srgbClr val="ffffff"/>
                </a:solidFill>
                <a:latin typeface="Times New Roman"/>
                <a:ea typeface="Tahoma"/>
              </a:rPr>
              <a:t>ñar” (to teach).</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ahoma"/>
              </a:rPr>
              <a:t>Latino immigrant parents believe that it is important in their role as parents to educate their children.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ahoma"/>
              </a:rPr>
              <a:t>This means parents are responsible for teaching manners, morals, and values. Their role is to help their children become “good people”.</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lora V. Rodriguez-Brown, Illinois, 2008</a:t>
            </a:r>
          </a:p>
        </p:txBody>
      </p:sp>
      <p:sp>
        <p:nvSpPr>
          <p:cNvPr id="5" name="PlaceHolder 4"/>
          <p:cNvSpPr>
            <a:spLocks noGrp="1"/>
          </p:cNvSpPr>
          <p:nvPr>
            <p:ph type="sldNum" idx="3"/>
          </p:nvPr>
        </p:nvSpPr>
        <p:spPr/>
        <p:txBody>
          <a:bodyPr/>
          <a:p>
            <a:fld id="{A4435682-5DBB-4E18-A2C5-D85771CD53A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n you ask Latino parents what they “ense</a:t>
            </a:r>
            <a:r>
              <a:rPr b="0" lang="en-US" sz="2800" spc="-1" strike="noStrike">
                <a:solidFill>
                  <a:srgbClr val="ffffff"/>
                </a:solidFill>
                <a:latin typeface="Times New Roman"/>
                <a:ea typeface="Tahoma"/>
              </a:rPr>
              <a:t>ñan” (teach) their children at home, they act surprised.</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ahoma"/>
              </a:rPr>
              <a:t>For them,  teaching is the role of the school and the teachers.</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ahoma"/>
              </a:rPr>
              <a:t>After all, who are they to take the role designed for more educated people.</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lora V. Rodriguez-Brown, Illinois, 2008</a:t>
            </a:r>
          </a:p>
        </p:txBody>
      </p:sp>
      <p:sp>
        <p:nvSpPr>
          <p:cNvPr id="5" name="PlaceHolder 4"/>
          <p:cNvSpPr>
            <a:spLocks noGrp="1"/>
          </p:cNvSpPr>
          <p:nvPr>
            <p:ph type="sldNum" idx="3"/>
          </p:nvPr>
        </p:nvSpPr>
        <p:spPr/>
        <p:txBody>
          <a:bodyPr/>
          <a:p>
            <a:fld id="{31AAD52A-FF64-4479-85FA-2E1AEB9DFDF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tino parents look up to teachers and schools.</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y tend to not interfere with what children do in school.</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achers are seen as very educated people. They have the knowledge.</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lora V. Rodriguez-Brown, Illinois, 2008</a:t>
            </a:r>
          </a:p>
        </p:txBody>
      </p:sp>
      <p:sp>
        <p:nvSpPr>
          <p:cNvPr id="5" name="PlaceHolder 4"/>
          <p:cNvSpPr>
            <a:spLocks noGrp="1"/>
          </p:cNvSpPr>
          <p:nvPr>
            <p:ph type="sldNum" idx="3"/>
          </p:nvPr>
        </p:nvSpPr>
        <p:spPr/>
        <p:txBody>
          <a:bodyPr/>
          <a:p>
            <a:fld id="{16F7E5FB-FAFE-49DB-B0DB-306D3E0EAED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87624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tino parents and schools</a:t>
            </a:r>
            <a:endParaRPr b="0" lang="en-US" sz="4400" spc="-1" strike="noStrike">
              <a:solidFill>
                <a:srgbClr val="ffcc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tino parents need to learn about the school expectations in relation to the education of their children.</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ese and Gallimore (2000) found that Latino parents are willing to add new cultural ways repertoires always that they do not compromise their values and morals.</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lora V. Rodriguez-Brown, Illinois, 2008</a:t>
            </a:r>
          </a:p>
        </p:txBody>
      </p:sp>
      <p:sp>
        <p:nvSpPr>
          <p:cNvPr id="5" name="PlaceHolder 4"/>
          <p:cNvSpPr>
            <a:spLocks noGrp="1"/>
          </p:cNvSpPr>
          <p:nvPr>
            <p:ph type="sldNum" idx="3"/>
          </p:nvPr>
        </p:nvSpPr>
        <p:spPr/>
        <p:txBody>
          <a:bodyPr/>
          <a:p>
            <a:fld id="{89ED1129-BAA5-481F-903E-C1923F76C4A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oldenberg (1987) found that explicit instructions from teachers are the best way to get Latino parents involved in their children’s education.</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teachers want the parents to work with the children at home, they should explain to them explicitly how they should teach their children. Otherwise, they will tend to “teach” in the way they learned.</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lora V. Rodriguez-Brown, Illinois, 2008</a:t>
            </a:r>
          </a:p>
        </p:txBody>
      </p:sp>
      <p:sp>
        <p:nvSpPr>
          <p:cNvPr id="5" name="PlaceHolder 4"/>
          <p:cNvSpPr>
            <a:spLocks noGrp="1"/>
          </p:cNvSpPr>
          <p:nvPr>
            <p:ph type="sldNum" idx="3"/>
          </p:nvPr>
        </p:nvSpPr>
        <p:spPr/>
        <p:txBody>
          <a:bodyPr/>
          <a:p>
            <a:fld id="{2963148D-39B7-47E0-8F7A-CD3B6CB0E2E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87624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Respeto</a:t>
            </a:r>
            <a:endParaRPr b="0" lang="en-US" sz="4400" spc="-1" strike="noStrike">
              <a:solidFill>
                <a:srgbClr val="ffcc00"/>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Respeto” (respect) is very important to the family and the community. If you are older, or more educated you will be respected by the parents and the children.</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lora V. Rodriguez-Brown, Illinois, 2008</a:t>
            </a:r>
          </a:p>
        </p:txBody>
      </p:sp>
      <p:sp>
        <p:nvSpPr>
          <p:cNvPr id="5" name="PlaceHolder 4"/>
          <p:cNvSpPr>
            <a:spLocks noGrp="1"/>
          </p:cNvSpPr>
          <p:nvPr>
            <p:ph type="sldNum" idx="3"/>
          </p:nvPr>
        </p:nvSpPr>
        <p:spPr/>
        <p:txBody>
          <a:bodyPr/>
          <a:p>
            <a:fld id="{E5C26A95-CA22-491F-BCD8-ABB56379FC4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order to lower the parents’ anxiety in dealing as equals with someone they respect, teachers should let parents know tha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hey value the knowledge the children bring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rom home and</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hey want the parents to become partners, no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nly in educating but teaching their children.</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lora V. Rodriguez-Brown, Illinois, 2008</a:t>
            </a:r>
          </a:p>
        </p:txBody>
      </p:sp>
      <p:sp>
        <p:nvSpPr>
          <p:cNvPr id="5" name="PlaceHolder 4"/>
          <p:cNvSpPr>
            <a:spLocks noGrp="1"/>
          </p:cNvSpPr>
          <p:nvPr>
            <p:ph type="sldNum" idx="3"/>
          </p:nvPr>
        </p:nvSpPr>
        <p:spPr/>
        <p:txBody>
          <a:bodyPr/>
          <a:p>
            <a:fld id="{D5A045FE-5A59-482C-895A-0065B873FF9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705960"/>
            <a:ext cx="7772400" cy="94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imes New Roman"/>
              </a:rPr>
              <a:t>Latino immigrant parents and early</a:t>
            </a:r>
            <a:br>
              <a:rPr sz="3600"/>
            </a:br>
            <a:r>
              <a:rPr b="0" lang="en-US" sz="3600" spc="-1" strike="noStrike">
                <a:solidFill>
                  <a:srgbClr val="ffcc00"/>
                </a:solidFill>
                <a:latin typeface="Times New Roman"/>
              </a:rPr>
              <a:t> literacy development</a:t>
            </a:r>
            <a:endParaRPr b="0" lang="en-US" sz="3600" spc="-1" strike="noStrike">
              <a:solidFill>
                <a:srgbClr val="ffcc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33520" indent="-53352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fferent researchers (Valdes, 1996; Rodr</a:t>
            </a:r>
            <a:r>
              <a:rPr b="0" lang="en-US" sz="2800" spc="-1" strike="noStrike">
                <a:solidFill>
                  <a:srgbClr val="ffffff"/>
                </a:solidFill>
                <a:latin typeface="Times New Roman"/>
                <a:ea typeface="Times New Roman"/>
              </a:rPr>
              <a:t>í</a:t>
            </a:r>
            <a:r>
              <a:rPr b="0" lang="en-US" sz="2800" spc="-1" strike="noStrike">
                <a:solidFill>
                  <a:srgbClr val="ffffff"/>
                </a:solidFill>
                <a:latin typeface="Times New Roman"/>
              </a:rPr>
              <a:t>guez-Brown, 2004; in press) have found that Latino immigrant parents believe that they can not support their children’s literacy learning because:</a:t>
            </a:r>
            <a:endParaRPr b="0" lang="en-US" sz="2800" spc="-1" strike="noStrike">
              <a:solidFill>
                <a:srgbClr val="ffffff"/>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  They do not know English, and/or </a:t>
            </a:r>
            <a:endParaRPr b="0" lang="en-US" sz="2800" spc="-1" strike="noStrike">
              <a:solidFill>
                <a:srgbClr val="ffffff"/>
              </a:solidFill>
              <a:latin typeface="Times New Roman"/>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Many of them feel that they do not have enough schooling to teach their children.</a:t>
            </a:r>
            <a:endParaRPr b="0" lang="en-US" sz="2800" spc="-1" strike="noStrike">
              <a:solidFill>
                <a:srgbClr val="ffffff"/>
              </a:solidFill>
              <a:latin typeface="Times New Roman"/>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lora V. Rodriguez-Brown, Illinois, 2008</a:t>
            </a:r>
          </a:p>
        </p:txBody>
      </p:sp>
      <p:sp>
        <p:nvSpPr>
          <p:cNvPr id="5" name="PlaceHolder 4"/>
          <p:cNvSpPr>
            <a:spLocks noGrp="1"/>
          </p:cNvSpPr>
          <p:nvPr>
            <p:ph type="sldNum" idx="3"/>
          </p:nvPr>
        </p:nvSpPr>
        <p:spPr/>
        <p:txBody>
          <a:bodyPr/>
          <a:p>
            <a:fld id="{682154B2-C5C5-4F9B-BD37-BBBCE57856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705960"/>
            <a:ext cx="7772400" cy="94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imes New Roman"/>
              </a:rPr>
              <a:t>“</a:t>
            </a:r>
            <a:r>
              <a:rPr b="0" lang="en-US" sz="3600" spc="-1" strike="noStrike">
                <a:solidFill>
                  <a:srgbClr val="ffcc00"/>
                </a:solidFill>
                <a:latin typeface="Times New Roman"/>
              </a:rPr>
              <a:t>Confianza” (mutual trust)</a:t>
            </a:r>
            <a:br>
              <a:rPr sz="3600"/>
            </a:br>
            <a:endParaRPr b="0" lang="en-US" sz="3600" spc="-1" strike="noStrike">
              <a:solidFill>
                <a:srgbClr val="ffcc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re is a need for teachers to understand what confianza means before the  families  have “confianza” in them.</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Confianza” is a sense that you are part of a network where everyone know, support, respect, and trust each other.</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lora V. Rodriguez-Brown, Illinois, 2008</a:t>
            </a:r>
          </a:p>
        </p:txBody>
      </p:sp>
      <p:sp>
        <p:nvSpPr>
          <p:cNvPr id="5" name="PlaceHolder 4"/>
          <p:cNvSpPr>
            <a:spLocks noGrp="1"/>
          </p:cNvSpPr>
          <p:nvPr>
            <p:ph type="sldNum" idx="3"/>
          </p:nvPr>
        </p:nvSpPr>
        <p:spPr/>
        <p:txBody>
          <a:bodyPr/>
          <a:p>
            <a:fld id="{4C254B35-DFD7-4499-AB18-CF9E95097EE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is through a sense of “confianza” that  parents see teachers as partners in the education of their children.</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Confianza” also allows teachers to become part of community networks which inform and enrich the school curriculum (Moll,1992).</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lora V. Rodriguez-Brown, Illinois, 2008</a:t>
            </a:r>
          </a:p>
        </p:txBody>
      </p:sp>
      <p:sp>
        <p:nvSpPr>
          <p:cNvPr id="5" name="PlaceHolder 4"/>
          <p:cNvSpPr>
            <a:spLocks noGrp="1"/>
          </p:cNvSpPr>
          <p:nvPr>
            <p:ph type="sldNum" idx="3"/>
          </p:nvPr>
        </p:nvSpPr>
        <p:spPr/>
        <p:txBody>
          <a:bodyPr/>
          <a:p>
            <a:fld id="{9607615E-50BB-4EAE-A9E4-DA6EC0BF87E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705960"/>
            <a:ext cx="7772400" cy="94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imes New Roman"/>
              </a:rPr>
              <a:t>Characteristics of programs responsive to parent’s needs</a:t>
            </a:r>
            <a:endParaRPr b="0" lang="en-US" sz="3600" spc="-1" strike="noStrike">
              <a:solidFill>
                <a:srgbClr val="ffcc00"/>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is very important for parents to have a voice in the planning of program activitie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achers and program designers should accept cultural ways of learning from the community and add new repertoires, rather than subtract what parents bring to the program.</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lora V. Rodriguez-Brown, Illinois, 2008</a:t>
            </a:r>
          </a:p>
        </p:txBody>
      </p:sp>
      <p:sp>
        <p:nvSpPr>
          <p:cNvPr id="5" name="PlaceHolder 4"/>
          <p:cNvSpPr>
            <a:spLocks noGrp="1"/>
          </p:cNvSpPr>
          <p:nvPr>
            <p:ph type="sldNum" idx="3"/>
          </p:nvPr>
        </p:nvSpPr>
        <p:spPr/>
        <p:txBody>
          <a:bodyPr/>
          <a:p>
            <a:fld id="{A1E3B76C-3059-4EB0-847C-8B2CD9FAFA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is very important to allow, value and respect the parents’ cultural ways and languages used at home as they share knowledge with their children.</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lora V. Rodriguez-Brown, Illinois, 2008</a:t>
            </a:r>
          </a:p>
        </p:txBody>
      </p:sp>
      <p:sp>
        <p:nvSpPr>
          <p:cNvPr id="5" name="PlaceHolder 4"/>
          <p:cNvSpPr>
            <a:spLocks noGrp="1"/>
          </p:cNvSpPr>
          <p:nvPr>
            <p:ph type="sldNum" idx="3"/>
          </p:nvPr>
        </p:nvSpPr>
        <p:spPr/>
        <p:txBody>
          <a:bodyPr/>
          <a:p>
            <a:fld id="{AC1DB4C7-8659-4F6F-9150-E0CB7EC9C6B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901800"/>
            <a:ext cx="7772400" cy="55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imes New Roman"/>
              </a:rPr>
              <a:t>Parent involvement programs</a:t>
            </a:r>
            <a:endParaRPr b="0" lang="en-US" sz="4000" spc="-1" strike="noStrike">
              <a:solidFill>
                <a:srgbClr val="ffcc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Functional” vs. “critical” parent involvement program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do programs go from a functional to a critical perspective?</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lora V. Rodriguez-Brown, Illinois, 2008</a:t>
            </a:r>
          </a:p>
        </p:txBody>
      </p:sp>
      <p:sp>
        <p:nvSpPr>
          <p:cNvPr id="5" name="PlaceHolder 4"/>
          <p:cNvSpPr>
            <a:spLocks noGrp="1"/>
          </p:cNvSpPr>
          <p:nvPr>
            <p:ph type="sldNum" idx="3"/>
          </p:nvPr>
        </p:nvSpPr>
        <p:spPr/>
        <p:txBody>
          <a:bodyPr/>
          <a:p>
            <a:fld id="{77D843B6-C89C-48C2-9E73-BF4F4964DE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159840"/>
            <a:ext cx="7772400" cy="204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Basic principles to work with culturally and linguistically different parents</a:t>
            </a:r>
            <a:br>
              <a:rPr sz="3200"/>
            </a:br>
            <a:endParaRPr b="0" lang="en-US" sz="3200" spc="-1" strike="noStrike">
              <a:solidFill>
                <a:srgbClr val="ffcc00"/>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cept the knowledge that individuals bring to the learning situation.</a:t>
            </a:r>
            <a:endParaRPr b="0" lang="en-US" sz="2800" spc="-1" strike="noStrike">
              <a:solidFill>
                <a:srgbClr val="ffffff"/>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2640" indent="-3326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 cultural ways of teaching/learning and primary discourses as stepping-stones to new learning.</a:t>
            </a:r>
            <a:endParaRPr b="0" lang="en-US" sz="2800" spc="-1" strike="noStrike">
              <a:solidFill>
                <a:srgbClr val="ffffff"/>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2640" indent="-3326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nect with the knowledge that participants bring to a learning situation to make new knowledge more relevant for them.</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lora V. Rodriguez-Brown, Illinois, 2008</a:t>
            </a:r>
          </a:p>
        </p:txBody>
      </p:sp>
      <p:sp>
        <p:nvSpPr>
          <p:cNvPr id="5" name="PlaceHolder 4"/>
          <p:cNvSpPr>
            <a:spLocks noGrp="1"/>
          </p:cNvSpPr>
          <p:nvPr>
            <p:ph type="sldNum" idx="3"/>
          </p:nvPr>
        </p:nvSpPr>
        <p:spPr/>
        <p:txBody>
          <a:bodyPr/>
          <a:p>
            <a:fld id="{31790395-2937-4A4B-8676-F0D3A25250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 rather than subtract, new knowledge and repertoires to the already existing knowledge in the familie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t families know that their contributions to the learning situation are important and wanted.</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structors need to learn about “funds of knowledge” and cultural ways of learning existing in the communities where they work, in order to become more effective teachers.</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lora V. Rodriguez-Brown, Illinois, 2008</a:t>
            </a:r>
          </a:p>
        </p:txBody>
      </p:sp>
      <p:sp>
        <p:nvSpPr>
          <p:cNvPr id="5" name="PlaceHolder 4"/>
          <p:cNvSpPr>
            <a:spLocks noGrp="1"/>
          </p:cNvSpPr>
          <p:nvPr>
            <p:ph type="sldNum" idx="3"/>
          </p:nvPr>
        </p:nvSpPr>
        <p:spPr/>
        <p:txBody>
          <a:bodyPr/>
          <a:p>
            <a:fld id="{0A405A0F-34F8-4951-AF74-D6D08CEE5BD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though parents may be familiar with a specific way to learn  (i.e. direct teaching), it is important to expose them to different methods or ways of learning.</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cording to The New London Group (1996) parents, as well as school children, should be exposed to different ways of learning, while respecting and accepting the ways they learned at home and the community.</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lora V. Rodriguez-Brown, Illinois, 2008</a:t>
            </a:r>
          </a:p>
        </p:txBody>
      </p:sp>
      <p:sp>
        <p:nvSpPr>
          <p:cNvPr id="5" name="PlaceHolder 4"/>
          <p:cNvSpPr>
            <a:spLocks noGrp="1"/>
          </p:cNvSpPr>
          <p:nvPr>
            <p:ph type="sldNum" idx="3"/>
          </p:nvPr>
        </p:nvSpPr>
        <p:spPr/>
        <p:txBody>
          <a:bodyPr/>
          <a:p>
            <a:fld id="{324BF181-3F0D-4642-89A8-20F22EA02EF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55640"/>
            <a:ext cx="77724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Relevant issues in the development and implementation of programs directed to families </a:t>
            </a:r>
            <a:endParaRPr b="0" lang="en-US" sz="3200" spc="-1" strike="noStrike">
              <a:solidFill>
                <a:srgbClr val="ffcc00"/>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fining family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cruitment and retention issue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mail, phone, program liaison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pplemental services: transportation, childcare, food</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lora V. Rodriguez-Brown, Illinois, 2008</a:t>
            </a:r>
          </a:p>
        </p:txBody>
      </p:sp>
      <p:sp>
        <p:nvSpPr>
          <p:cNvPr id="5" name="PlaceHolder 4"/>
          <p:cNvSpPr>
            <a:spLocks noGrp="1"/>
          </p:cNvSpPr>
          <p:nvPr>
            <p:ph type="sldNum" idx="3"/>
          </p:nvPr>
        </p:nvSpPr>
        <p:spPr/>
        <p:txBody>
          <a:bodyPr/>
          <a:p>
            <a:fld id="{F26884DB-CBA5-479B-9015-6E8E38BDAE2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ed to address beyond literacy issues</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hool teachers’ role in the program</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fining length of participation</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dressing the needs of graduating parents</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lora V. Rodriguez-Brown, Illinois, 2008</a:t>
            </a:r>
          </a:p>
        </p:txBody>
      </p:sp>
      <p:sp>
        <p:nvSpPr>
          <p:cNvPr id="5" name="PlaceHolder 4"/>
          <p:cNvSpPr>
            <a:spLocks noGrp="1"/>
          </p:cNvSpPr>
          <p:nvPr>
            <p:ph type="sldNum" idx="3"/>
          </p:nvPr>
        </p:nvSpPr>
        <p:spPr/>
        <p:txBody>
          <a:bodyPr/>
          <a:p>
            <a:fld id="{3332F970-1BAE-43B4-86A8-8D98A52BDBF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55640"/>
            <a:ext cx="77724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is important  then, for parents to understand and be reassured that you do not learn </a:t>
            </a:r>
            <a:r>
              <a:rPr b="1" lang="en-US" sz="3200" spc="-1" strike="noStrike">
                <a:solidFill>
                  <a:srgbClr val="ffffff"/>
                </a:solidFill>
                <a:latin typeface="Times New Roman"/>
              </a:rPr>
              <a:t>only</a:t>
            </a:r>
            <a:r>
              <a:rPr b="0" lang="en-US" sz="3200" spc="-1" strike="noStrike">
                <a:solidFill>
                  <a:srgbClr val="ffffff"/>
                </a:solidFill>
                <a:latin typeface="Times New Roman"/>
              </a:rPr>
              <a:t> in English, and that what they teach the children in Spanish support their learning in English later in life.</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rents also need to be reassured that not all knowledge comes from schooling.</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lora V. Rodriguez-Brown, Illinois, 2008</a:t>
            </a:r>
          </a:p>
        </p:txBody>
      </p:sp>
      <p:sp>
        <p:nvSpPr>
          <p:cNvPr id="5" name="PlaceHolder 4"/>
          <p:cNvSpPr>
            <a:spLocks noGrp="1"/>
          </p:cNvSpPr>
          <p:nvPr>
            <p:ph type="sldNum" idx="3"/>
          </p:nvPr>
        </p:nvSpPr>
        <p:spPr/>
        <p:txBody>
          <a:bodyPr/>
          <a:p>
            <a:fld id="{DA6E1902-26C8-47C9-934B-85436002AD1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705960"/>
            <a:ext cx="7772400" cy="94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imes New Roman"/>
              </a:rPr>
              <a:t>Lessons learned in relation to </a:t>
            </a:r>
            <a:br>
              <a:rPr sz="3600"/>
            </a:br>
            <a:r>
              <a:rPr b="0" lang="en-US" sz="3600" spc="-1" strike="noStrike">
                <a:solidFill>
                  <a:srgbClr val="ffcc00"/>
                </a:solidFill>
                <a:latin typeface="Times New Roman"/>
              </a:rPr>
              <a:t>program design</a:t>
            </a:r>
            <a:endParaRPr b="0" lang="en-US" sz="3600" spc="-1" strike="noStrike">
              <a:solidFill>
                <a:srgbClr val="ffcc00"/>
              </a:solidFill>
              <a:latin typeface="Times New Roman"/>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grams should have a component where parents learn about classrooms and learning in USA.</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rents should be offered  opportunities to talk to teachers, share expectations and knowledge.</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lora V. Rodriguez-Brown, Illinois, 2008</a:t>
            </a:r>
          </a:p>
        </p:txBody>
      </p:sp>
      <p:sp>
        <p:nvSpPr>
          <p:cNvPr id="5" name="PlaceHolder 4"/>
          <p:cNvSpPr>
            <a:spLocks noGrp="1"/>
          </p:cNvSpPr>
          <p:nvPr>
            <p:ph type="sldNum" idx="3"/>
          </p:nvPr>
        </p:nvSpPr>
        <p:spPr/>
        <p:txBody>
          <a:bodyPr/>
          <a:p>
            <a:fld id="{9D52A481-8DA4-4D41-9BFE-0A5FD8811F8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evelopment of home-literacy centers is one of the activities that contributes the most to parents’ participation in supporting their children’s learning.</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concept of emergent writing is one of the hardest for parents to understand. They should be given time to fully understand this concep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lora V. Rodriguez-Brown, Illinois, 2008</a:t>
            </a:r>
          </a:p>
        </p:txBody>
      </p:sp>
      <p:sp>
        <p:nvSpPr>
          <p:cNvPr id="5" name="PlaceHolder 4"/>
          <p:cNvSpPr>
            <a:spLocks noGrp="1"/>
          </p:cNvSpPr>
          <p:nvPr>
            <p:ph type="sldNum" idx="3"/>
          </p:nvPr>
        </p:nvSpPr>
        <p:spPr/>
        <p:txBody>
          <a:bodyPr/>
          <a:p>
            <a:fld id="{811C30D8-F991-46FB-A7EB-0F97F2F6ADD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munity literacy sessions are very relevant to family literacy.</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rents should be provided with information about how to use resources in the community where they live, and the community at large, in order to enrich their children’s and their own lives.</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lora V. Rodriguez-Brown, Illinois, 2008</a:t>
            </a:r>
          </a:p>
        </p:txBody>
      </p:sp>
      <p:sp>
        <p:nvSpPr>
          <p:cNvPr id="5" name="PlaceHolder 4"/>
          <p:cNvSpPr>
            <a:spLocks noGrp="1"/>
          </p:cNvSpPr>
          <p:nvPr>
            <p:ph type="sldNum" idx="3"/>
          </p:nvPr>
        </p:nvSpPr>
        <p:spPr/>
        <p:txBody>
          <a:bodyPr/>
          <a:p>
            <a:fld id="{C2A4FF00-6CB6-432E-B515-90529B21EDE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705960"/>
            <a:ext cx="7772400" cy="94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imes New Roman"/>
              </a:rPr>
              <a:t>Issues of change and ethics in family literacy</a:t>
            </a:r>
            <a:endParaRPr b="0" lang="en-US" sz="3600" spc="-1" strike="noStrike">
              <a:solidFill>
                <a:srgbClr val="ffcc00"/>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amily literacy changes families and, as such, change may produce conflicts within the familie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schools, teachers and program staff play a role in supporting families as they change.</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lora V. Rodriguez-Brown, Illinois, 2008</a:t>
            </a:r>
          </a:p>
        </p:txBody>
      </p:sp>
      <p:sp>
        <p:nvSpPr>
          <p:cNvPr id="5" name="PlaceHolder 4"/>
          <p:cNvSpPr>
            <a:spLocks noGrp="1"/>
          </p:cNvSpPr>
          <p:nvPr>
            <p:ph type="sldNum" idx="3"/>
          </p:nvPr>
        </p:nvSpPr>
        <p:spPr/>
        <p:txBody>
          <a:bodyPr/>
          <a:p>
            <a:fld id="{0533A4AF-97F6-4A58-8B3D-29A03B6BA855}" type="slidenum">
              <a:t>3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87624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Immigrant parents and schooling in the U.S.A.</a:t>
            </a:r>
            <a:endParaRPr b="0" lang="en-US" sz="4400" spc="-1" strike="noStrike">
              <a:solidFill>
                <a:srgbClr val="ffcc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y new immigrant parents have a great curiosity about schools in the  U.S.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are students taught in the classroom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is expected of the childre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is expected from the parents? </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lora V. Rodriguez-Brown, Illinois, 2008</a:t>
            </a:r>
          </a:p>
        </p:txBody>
      </p:sp>
      <p:sp>
        <p:nvSpPr>
          <p:cNvPr id="5" name="PlaceHolder 4"/>
          <p:cNvSpPr>
            <a:spLocks noGrp="1"/>
          </p:cNvSpPr>
          <p:nvPr>
            <p:ph type="sldNum" idx="3"/>
          </p:nvPr>
        </p:nvSpPr>
        <p:spPr/>
        <p:txBody>
          <a:bodyPr/>
          <a:p>
            <a:fld id="{1C439726-545E-4823-80A9-37D04940A4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ale (1986) and Purcell-Gates (1995) have stated that children who do well in school come from homes where there is congruency between what children learn at home and what is taught at school.</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the U.S., the schools and the curriculum reflect middle class beliefs and values.</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lora V. Rodriguez-Brown, Illinois, 2008</a:t>
            </a:r>
          </a:p>
        </p:txBody>
      </p:sp>
      <p:sp>
        <p:nvSpPr>
          <p:cNvPr id="5" name="PlaceHolder 4"/>
          <p:cNvSpPr>
            <a:spLocks noGrp="1"/>
          </p:cNvSpPr>
          <p:nvPr>
            <p:ph type="sldNum" idx="3"/>
          </p:nvPr>
        </p:nvSpPr>
        <p:spPr/>
        <p:txBody>
          <a:bodyPr/>
          <a:p>
            <a:fld id="{1F1092E5-6CBE-4FE4-A815-97318DE0D6C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ildren who come from culturally and/or linguistically different homes have problems in transitioning between home and school.</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is not that they are not learning anything at home, but what they learn at home may not be relevant to what the children suppose to know when they start school.</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lora V. Rodriguez-Brown, Illinois, 2008</a:t>
            </a:r>
          </a:p>
        </p:txBody>
      </p:sp>
      <p:sp>
        <p:nvSpPr>
          <p:cNvPr id="5" name="PlaceHolder 4"/>
          <p:cNvSpPr>
            <a:spLocks noGrp="1"/>
          </p:cNvSpPr>
          <p:nvPr>
            <p:ph type="sldNum" idx="3"/>
          </p:nvPr>
        </p:nvSpPr>
        <p:spPr/>
        <p:txBody>
          <a:bodyPr/>
          <a:p>
            <a:fld id="{F5E38865-FF97-4CC3-BD35-06B6424D00A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hools and teachers do not recognize as relevant the knowledge that culturally and linguistically different children bring to school.</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om the beginning of school, children sense a disconnection between home and school.</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lora V. Rodriguez-Brown, Illinois, 2008</a:t>
            </a:r>
          </a:p>
        </p:txBody>
      </p:sp>
      <p:sp>
        <p:nvSpPr>
          <p:cNvPr id="5" name="PlaceHolder 4"/>
          <p:cNvSpPr>
            <a:spLocks noGrp="1"/>
          </p:cNvSpPr>
          <p:nvPr>
            <p:ph type="sldNum" idx="3"/>
          </p:nvPr>
        </p:nvSpPr>
        <p:spPr/>
        <p:txBody>
          <a:bodyPr/>
          <a:p>
            <a:fld id="{6FB0D8CE-A9F7-42F8-9ABD-65D87225C5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901800"/>
            <a:ext cx="7772400" cy="55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imes New Roman"/>
              </a:rPr>
              <a:t>Culture, teaching, and learning</a:t>
            </a:r>
            <a:endParaRPr b="0" lang="en-US" sz="4000" spc="-1" strike="noStrike">
              <a:solidFill>
                <a:srgbClr val="ffcc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re are some concepts that are central to understand immigrant (particularly Latino) parents values and behaviors in relation to how they see their role in their their children’s education.</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lora V. Rodriguez-Brown, Illinois, 2008</a:t>
            </a:r>
          </a:p>
        </p:txBody>
      </p:sp>
      <p:sp>
        <p:nvSpPr>
          <p:cNvPr id="5" name="PlaceHolder 4"/>
          <p:cNvSpPr>
            <a:spLocks noGrp="1"/>
          </p:cNvSpPr>
          <p:nvPr>
            <p:ph type="sldNum" idx="3"/>
          </p:nvPr>
        </p:nvSpPr>
        <p:spPr/>
        <p:txBody>
          <a:bodyPr/>
          <a:p>
            <a:fld id="{3AFBE55A-5A8A-46D0-8BC4-8AA812E1A2E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87624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Familia</a:t>
            </a:r>
            <a:endParaRPr b="0" lang="en-US" sz="4400" spc="-1" strike="noStrike">
              <a:solidFill>
                <a:srgbClr val="ffcc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oncept of “familia” (Abi-Nader, 1991) is central to Latino families life. It means that the family is more important that the individual.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amily needs take precedence over individual needs.</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lora V. Rodriguez-Brown, Illinois, 2008</a:t>
            </a:r>
          </a:p>
        </p:txBody>
      </p:sp>
      <p:sp>
        <p:nvSpPr>
          <p:cNvPr id="5" name="PlaceHolder 4"/>
          <p:cNvSpPr>
            <a:spLocks noGrp="1"/>
          </p:cNvSpPr>
          <p:nvPr>
            <p:ph type="sldNum" idx="3"/>
          </p:nvPr>
        </p:nvSpPr>
        <p:spPr/>
        <p:txBody>
          <a:bodyPr/>
          <a:p>
            <a:fld id="{0A244778-4DAA-4F71-8DAE-53406E3675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8T01:11:22Z</dcterms:created>
  <dc:creator>Flora</dc:creator>
  <dc:description/>
  <cp:keywords/>
  <dc:language>en-US</dc:language>
  <cp:lastModifiedBy>Flora</cp:lastModifiedBy>
  <dcterms:modified xsi:type="dcterms:W3CDTF">2008-01-12T05:17:54Z</dcterms:modified>
  <cp:revision>21</cp:revision>
  <dc:subject/>
  <dc:title>Involving families of ELL students in their children’s learning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0690461033</vt:lpwstr>
  </property>
</Properties>
</file>